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254-AA96-40FB-B3EA-48A2C380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063-B73F-45E6-A0D2-7C86F82D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D09-EB4C-40E2-BEED-F39F9640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EED-4AAC-4BD5-9130-453B286D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720-672F-49A2-941D-4B124EC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605-D8DC-48B6-B9E1-92EFF9B1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540-E533-4DE1-8653-7C83351A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D16-5AC6-4EA7-BF73-1FC1CD3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E81-18C9-4232-A275-CDC60AF1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F5D-1358-479C-AFBD-C980064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2F7-11D0-482C-82E3-C545803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9CC-D28C-4152-8A5E-768858BC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4FFC-8B64-4E02-A689-5BEDCCCDC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a.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6000" y="2565360"/>
            <a:ext cx="3914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rugs as life saver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ritten work by answering the last of the summary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ook at the Key Points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3 is especially important. Can you explain why a doctor will not give you antibiotic as a cure for a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your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airs. Call yourselves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 - Can you explain what a medicine is to your partn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sk ‘B’  to explain why antibiotics are no good in treating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264312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78360" y="180324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49920" y="3938760"/>
            <a:ext cx="1835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of the medicines we take when we have infections are not cures but simply relieve symp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reduce our discomfort and give our bodies time to recover using our natural def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Do you remember what our natural defences 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How do Aspirin  and Paracetamol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azing class of drugs which really can cure are called ANTIBIO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the power to destroy disease carrying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7640" y="364500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284976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5589720"/>
            <a:ext cx="79200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have helped to treat some of the worst infectious diseases known to 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diseases are so terrible that we use innoculation and vaccination to try to prevent spread of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 we can now treat to prevent the worst of the symptoms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2933640" cy="203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3573360"/>
            <a:ext cx="3479760" cy="275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95640" y="476280"/>
            <a:ext cx="489600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22200"/>
            <a:ext cx="33116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th from diseases which were onc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2554200"/>
            <a:ext cx="1727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6165720"/>
            <a:ext cx="2592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950080"/>
            <a:ext cx="4248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bonic Plague - Black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Drugs to Treat Diseas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80008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Explain the difference between a drug like Aspirin and a drug like Penicillin (an Antibi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4 minutes to do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exander Fleming discovered Penicillin in 19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the story of this discovery on page 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Now write a full answer to question 2 on page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at is classed as a medic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o know why viral infections cannot be treated with antibio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s read about how antibiotic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402912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027600" cy="218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5877000"/>
            <a:ext cx="41767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plates show colonies of bacteria grow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4437000"/>
            <a:ext cx="38163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hese plates, discs soaked in antibiotics are placed on the growing colonies. We can see the most effective antibio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09:45Z</dcterms:created>
  <dc:creator>Pat</dc:creator>
  <dc:description/>
  <dc:language>en-US</dc:language>
  <cp:lastModifiedBy>sthalliwellp</cp:lastModifiedBy>
  <dcterms:modified xsi:type="dcterms:W3CDTF">2006-10-10T14:20:39Z</dcterms:modified>
  <cp:revision>4</cp:revision>
  <dc:subject/>
  <dc:title>Slide 1</dc:title>
</cp:coreProperties>
</file>